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5A3-4189-47E7-B6B2-FE7D7C3A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168-31BA-4BC8-9DB2-984833AE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FAC-F87D-4CC0-B4B1-BC4B5F84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49E-DE76-40C6-B7B6-F010FBE4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EA6-D3E7-4033-B457-434E41A6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179-58B3-4102-BF26-B02EA152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572-CADD-43C6-AFC5-B3B52B77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867-0B90-470B-8228-7029DF22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9F8-EBED-4740-B8FF-EA16C3A6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563-3F5B-497F-BBDD-58F66199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B9B-A6B0-45A0-AF0D-28FE5A34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3A7-C0A9-456F-B554-47D25066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B3A4-1D52-4B9F-A11A-073F1C3469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6240" y="219240"/>
            <a:ext cx="8259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now people are trying to help,but I wish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n’t treat me as if I am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 in the classroom,Xiaowen looks just like all 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m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uses a wheelchair to get around and often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a little longer to do everyday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there are more opportunities for dis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o make a contribution for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ollege,gifted disabled studentsreceiv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y need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143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58880" y="60012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81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580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477120" y="3048120"/>
            <a:ext cx="1522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0481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24480" y="3267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952880"/>
            <a:ext cx="609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485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362320" y="61722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6172200"/>
            <a:ext cx="38088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81280" y="5934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440" y="763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without disabilities also lear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cooperating to reach for their goals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very important for us to know that someone f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way is also struggling as we 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wo years,mentally disabled athletes c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ether to take part in the Special Olymp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al disability was considered being shamefu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ntally disabled received little treatmen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unately,we have now realised that ther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what can be done to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57200"/>
            <a:ext cx="228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720" y="7524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2286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7800" y="18954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1240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77120" y="3114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886200"/>
            <a:ext cx="6858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1480" y="47149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80060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64771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040" y="60102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2720" y="1143000"/>
            <a:ext cx="2081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穿上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做出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的问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达到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…里起作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适应，调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习惯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多种方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…的比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角逐，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9880" y="10573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dress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9360" y="15145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ke a contrib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3920" y="197172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matter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52120" y="235260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ach one’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0200" y="283356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lay a rol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400" y="326700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dju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2320" y="36482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8120" y="4029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par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11840" y="448632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more than one 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19680" y="49435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rticipa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45000" y="54007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pe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63400" y="585792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pet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-164520" y="1285920"/>
            <a:ext cx="963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Mrs. Smith is a woman with rich experience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ch can be lea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rom whom    B. from which     C. whom      D. 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__________is quite natural , a beginner can’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h a difficult task in an h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B. As       C. Which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What will your mother give you as your birth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he promised to get a new bike ________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           B. for           C. on           D.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873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7560" y="2505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58160" y="456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880" y="219240"/>
            <a:ext cx="882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_it with me and I’ll see what I can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left             B. When leav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f you leave          D.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ig snake , the little girl stood und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e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n ; screamed                 B. Seen ; scre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eeing ; screaming             D. Seeing ; screa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 experiment ___________they had made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ibution succeeded 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ich     B. at which   C. which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The manager had to go to Beijing on busines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3, _________happened to be his only so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    B. when       C. that  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9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564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53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5320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720" y="371520"/>
            <a:ext cx="8797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familiar with the boo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Yes. There was a time ________this book was q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hen     C. with which     D. ab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 newly built museum is ________larger tha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d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ny       B. great       C. much          D.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e are considering ________you to work with u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iting         B. invite         C. to invite    D. inv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He has only got one shirt, because all _________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rest shirts            B. the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left                        D. the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6560" y="752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78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74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680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3800" y="371520"/>
            <a:ext cx="883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 treat me __________a child , will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             B. for            C. at               D.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’ll send____________on her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y mother a gift            B. a gift for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 gift at my mother       D. a gift by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little girl is dirty from head to foot because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n the mud all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laying                 B. has p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s been playing         D. is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Would you like me to bring you a cup of coffe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 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great pleasure!      B. Yes, you cou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ood idea!                      D. That’s very kind of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20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180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424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46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880" y="447840"/>
            <a:ext cx="8978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nearly an hour___________the sleeping p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  B. before        C. since       D.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What are you busy doing these day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the coming mid-term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paring                  B. Prepari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repare                D. To prepar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e looked around and found a man _________a wa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ick up                    B. to be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ick up                D.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4280" y="371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47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680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0160" y="371520"/>
            <a:ext cx="818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go with us tomorr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t ___________the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depend                  B. is all dep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depends                 D. is all de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ich do you enjoy __________your spare ti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fing the Internet or reading no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pend                   B. spend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spend               D.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09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06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23Z</dcterms:modified>
  <cp:revision>6</cp:revision>
  <dc:subject/>
  <dc:title>PowerPoint Presentation</dc:title>
</cp:coreProperties>
</file>